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F6C-D4E1-4311-B7DC-05A35C78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B0C-2658-48A7-89FE-61E5B52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5F9D-BD9C-4369-B197-827FD53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0DA38-64DC-4687-90BD-6F227340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77CA-5C38-4F85-8E08-2F85FA84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5E099-2952-4CEB-AD5A-070720A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777CB-3EDD-4EA3-A94E-AB20BE29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87F48-F78A-424E-BF5F-6277228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9C7F6-DFCB-4A9D-96FD-2552FCE2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1CC58-51A4-4281-A070-D195AD49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A537B-050B-42D4-B1DE-108C8F39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D05F5-DDC4-4DF3-893F-B8AB9AF1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526-BF93-4231-B569-C4164D89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837A1-8375-4C7C-86A4-8570D3E3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1EC35-FDB1-4425-9ADE-155F8DF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A6F65-E7DD-4CBE-B293-5CBC80C9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DD2CC-02CB-415C-A660-64A0BB25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F54E4-A73C-4F5F-9650-7C8CDDD0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8961E-84F0-4D03-8014-88105BF2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D6823-0036-4B0C-80EE-EA2A982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0FDC6-17DA-4582-B9AA-BA205131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6A86F-23CB-4852-83C5-B5C93293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DB2F1-C711-4098-9BFE-5F9DBF43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E00-7DB1-4AF7-B7B0-8EE8AF9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69D86-97B2-4107-9A61-12ECA46E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CF27-41DB-4D31-9423-DA073966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69C94-5F70-43BB-8422-7AAFCD2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13C13-9287-4CE9-90B9-BA4E7F1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70881-399A-4D44-A5BA-E294C6F9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7C2E0-9E1B-400A-B026-92340CB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FAEAF-5B8E-4116-BC69-BDD8D3C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5C144-DC70-4589-BA2C-90B0756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4DABD-451E-482D-B468-3A9F13B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B5A9D-92EF-49C4-AC56-8B94AE8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3389-BF72-4535-B2DF-796020C9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EC1A-94C3-4EC4-B964-D70AF85B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B68BC-66C9-4711-B423-EB0E0B76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E525-9F88-433C-89AF-818FE3E2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C8E22-4ADF-46EA-935E-81FC336A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1A87A-971D-45C4-B50C-CCD1E70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9321D-75F7-494A-93C1-E599AA7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2C8A0-2D50-4208-86AF-494D0BE0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A3827-7A35-4EE9-8AF7-63C93F81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82127-F297-4B54-917C-052CC10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A27D-D077-41A7-9A9B-5578B573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C63B-9D9A-4794-9465-32583728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7C5C0-330D-449C-833D-7E9D64C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947A-C912-4125-B926-679A0EC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999A7-9C24-416B-90D2-951431F4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1464D-9839-4ABB-94F3-AD9144F2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AFA27-76B2-4901-BF7F-96EBF2FE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A65E-22F0-47CB-A441-0CF435CB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5BC-C64D-4921-8820-98753925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E226-6685-4760-9DA6-D273E82A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F95-CE76-4546-AB73-9967FAB5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9E62-054C-486A-ACE6-5135D08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C16-E854-419C-98FB-95C1216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992-1B1F-4A03-B6A5-B9E1882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BE97-3C97-4790-94E9-D81EA7D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C37B-9C36-42A9-B19F-DFF8C574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53B-38CF-4079-91C0-54C0D4FC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3E7F-9B3D-4F70-846A-1809CCB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F4A7-9E83-436A-B72A-9CA18C56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E084-AD76-452A-B172-3C3AD10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E929-7244-46F7-B8D9-BF051CF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DE5C-0C3E-4B0A-82AC-87A0AA1C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031D-D16F-45A2-8DA4-A2B3044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FA4-ACAA-4C5B-A338-6F1F9ED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F4AF-29BB-4A83-8D57-172E745B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8AAC-353F-4276-8FC7-9850D50E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EEF9-5278-4B45-A633-F268BF0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B1A1-57E9-47C6-A0F7-01CCB40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4669-64AA-4B1F-B5B9-3D5A7FEA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F83A-FFF7-4163-A477-436F8D5A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B3D6-ED16-485E-A9F9-3484AF0D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0A94-9614-41A5-BFA2-2EE3C694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FD2A-853D-484C-AE62-E307262F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23D0-3F14-45CC-96B1-DB5EA8E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5E4-9336-411C-8F07-825B6BBA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0B76-D615-416D-A396-821839C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0B2C-65A5-4113-8002-97C4899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395D-4478-46A7-AF1C-786215D0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A876-4DE7-4A8E-928E-261101E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A538-E48F-47B9-98E2-5FE8522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D26C-E4E0-430B-BBED-D69CBE7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B0E8-BB70-4BF5-A1A2-5E11C864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5A79-AFE2-45A6-8A88-9DB1100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9D6D-638C-4AEC-868F-EA08A0FE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2C29-AB3F-409E-B3BD-C0125E32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2EF-BA56-4651-B435-056A8E74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7EB86-7AF6-45BB-A2A0-90DE0C3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9DE31-D6AC-40D3-91DD-1CCBBCDA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A75D-D968-43F4-92CC-F627F95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DB23-B144-4C39-8F64-CF698721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59F2-8FCE-4EBF-B546-5796B520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F9DD-0E04-4F20-93D7-1FD2BEB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89A2-CA6B-4969-8D99-1E8A9782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17E87-1D56-43F7-8F7C-2B2D0EE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70C4-0A57-499E-98B1-E63016B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571E-137C-4781-8586-C59489C2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825-50CC-40E7-966D-F12CE02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B7950-B6C2-4CB6-8420-EC1864E6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55FC-887B-4CBC-9C16-D3E63A23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5DB4-53AB-4E79-B91D-146E8456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8B1D-6D43-46A2-9B06-13781B0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279A-F428-4B51-BA0D-A4D3990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7CAA0-E39F-43DD-AB56-EC4E7012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22109-B16C-4CB0-923D-B206F80F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78A6-DA7E-4CA1-BB3A-5E9A634B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A6379-1667-4725-A73A-B99CE9E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B9E2F-4D88-4772-8225-6333164F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B44-22A9-4E48-B792-643AADF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4E51-9920-4E89-90D4-3ED2965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344CB-6FE8-4769-9EC7-E03D9E0E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5D1F6-66EE-4A86-9334-17A3C678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4F82-B38F-445C-BB02-072B5344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FA6E-72D9-4619-AEA6-C9F920A6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D709-97AC-43AE-B25A-290CDD1C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31E6-1B7E-4F2D-9E17-4C9853A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8300-A17D-4D21-A01D-44FD2452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BC049-42A1-4112-A7EA-FB887F8C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1F91-55D8-4E26-ACEB-534274B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B2D-7A32-4116-BBD5-FB6B23A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12F8-1988-4AAD-A0EB-3F45E89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E773-4693-474D-A9AF-4598A71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347DE-F173-4D3B-9DFD-A0A43AB6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4CBE-199E-4A96-A378-44E58E37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6C29-3059-4D3B-BEC2-DF862C53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7734A-6BF2-4C6C-B360-EF2633B5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B1BC-F42F-4FE7-98A3-11FD56A9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8FA4-927A-4A93-823E-2A9AE845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6DAD-A7E2-4BA9-ACED-A53D93E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39E4-B7FE-4702-A8C0-C83C3E03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054-9AE3-4F24-B271-0730F7A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A447-1243-46CC-9BB0-86F35EB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BDBA-6F3D-4C70-93F7-74CE60B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9B43-75AE-4942-8070-B388473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2070-12A0-4424-8A9F-9A123311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8A1A-6575-43F0-AB42-3055A1FE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808D9-BF6B-4093-95C7-F0825C0B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ABA93-C548-4BC1-8A59-95E87458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DE713-8D4E-45C2-98B8-C3D38AAE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15111-2192-4392-9405-E5F84FB6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C98DC-0D2C-4D56-9837-D38DD2C0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E20-3D54-4D92-A388-F4C697C90E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493-1D08-4BA5-B94B-182BBCC4BA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333-768C-475D-BDAD-FF13FCD4D5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B349-232A-4A06-9B5B-AAFD2684AE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5FA-EE38-4597-B0A5-A01A80C1B1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3BD-3095-4663-8386-8ED58ABAB9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BF52-FE4F-4368-AF77-50D7B998D1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FC3C-1CF2-492C-8D74-8BB120A62C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E7A7-E2A1-4066-BAE1-C8A8C66B13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C82-5FA6-460A-A0CD-7E3204C03A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EDF2-E058-488D-9101-8F315F5637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B60-F01A-40A5-92A7-60D3CAB577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2 Keď tvoj žitia kríž je ťaž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tvoj žitia kríž je ťažk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ď vierou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ozeraj na prekáž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ď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ej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boku ti Ježiš stoj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íl keď sa ti nedost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i novú nádej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Arial"/>
              </a:rPr>
              <a:t>choď vierou vpre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13:32Z</dcterms:modified>
  <cp:revision>22</cp:revision>
  <dc:subject/>
  <dc:title>Je veľký náš Pán, on slávy je Kráľ Nech do všetkých strán  spev vrúcnych znie chvál.</dc:title>
</cp:coreProperties>
</file>